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184-1F37-405C-B1A4-9C9D83AC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B50-6400-40BE-BCD4-F8C795C8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56F7-E754-4DC1-9394-91D0ED11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C8B2-0426-409B-B6B3-1A1EA2662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57B0-CDBC-4129-9C0A-7E681CB7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277-80F4-426C-ADED-21935B74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DAEF-3F13-460D-8265-F197B96B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4C4E-6147-41E8-8DA9-002C50D9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2DC-BCF2-4703-941B-201AF8B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4FCB-C4C8-4741-BB05-85DCB74C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86F-791B-4DC7-A557-9156786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98F6-BB1D-4AA4-861F-CABAA48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CECA-E762-48B6-A2C8-356F76A5A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3462480" cy="6856560"/>
          </a:xfrm>
          <a:custGeom>
            <a:avLst/>
            <a:gdLst/>
            <a:ahLst/>
            <a:rect l="l" t="t" r="r" b="b"/>
            <a:pathLst>
              <a:path w="2181" h="4319">
                <a:moveTo>
                  <a:pt x="0" y="0"/>
                </a:moveTo>
                <a:lnTo>
                  <a:pt x="2" y="4319"/>
                </a:lnTo>
                <a:lnTo>
                  <a:pt x="1974" y="4319"/>
                </a:lnTo>
                <a:lnTo>
                  <a:pt x="1896" y="3974"/>
                </a:lnTo>
                <a:cubicBezTo>
                  <a:pt x="1870" y="3848"/>
                  <a:pt x="1843" y="3731"/>
                  <a:pt x="1818" y="3560"/>
                </a:cubicBezTo>
                <a:cubicBezTo>
                  <a:pt x="1793" y="3389"/>
                  <a:pt x="1764" y="3134"/>
                  <a:pt x="1747" y="2945"/>
                </a:cubicBezTo>
                <a:cubicBezTo>
                  <a:pt x="1730" y="2756"/>
                  <a:pt x="1720" y="2606"/>
                  <a:pt x="1715" y="2427"/>
                </a:cubicBezTo>
                <a:cubicBezTo>
                  <a:pt x="1710" y="2248"/>
                  <a:pt x="1705" y="2051"/>
                  <a:pt x="1715" y="1870"/>
                </a:cubicBezTo>
                <a:cubicBezTo>
                  <a:pt x="1725" y="1689"/>
                  <a:pt x="1739" y="1535"/>
                  <a:pt x="1773" y="1340"/>
                </a:cubicBezTo>
                <a:cubicBezTo>
                  <a:pt x="1807" y="1145"/>
                  <a:pt x="1854" y="922"/>
                  <a:pt x="1922" y="699"/>
                </a:cubicBezTo>
                <a:lnTo>
                  <a:pt x="2181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11240" y="-1440"/>
            <a:ext cx="9258480" cy="2084400"/>
          </a:xfrm>
          <a:custGeom>
            <a:avLst/>
            <a:gdLst/>
            <a:ahLst/>
            <a:rect l="l" t="t" r="r" b="b"/>
            <a:pathLst>
              <a:path w="5826" h="1313">
                <a:moveTo>
                  <a:pt x="66" y="0"/>
                </a:moveTo>
                <a:lnTo>
                  <a:pt x="5826" y="0"/>
                </a:lnTo>
                <a:lnTo>
                  <a:pt x="5826" y="1313"/>
                </a:lnTo>
                <a:lnTo>
                  <a:pt x="5703" y="1287"/>
                </a:lnTo>
                <a:cubicBezTo>
                  <a:pt x="5478" y="1240"/>
                  <a:pt x="5013" y="1117"/>
                  <a:pt x="4473" y="1029"/>
                </a:cubicBezTo>
                <a:cubicBezTo>
                  <a:pt x="3933" y="941"/>
                  <a:pt x="3047" y="830"/>
                  <a:pt x="2461" y="757"/>
                </a:cubicBezTo>
                <a:cubicBezTo>
                  <a:pt x="1875" y="684"/>
                  <a:pt x="1344" y="629"/>
                  <a:pt x="959" y="589"/>
                </a:cubicBezTo>
                <a:cubicBezTo>
                  <a:pt x="574" y="549"/>
                  <a:pt x="298" y="534"/>
                  <a:pt x="149" y="517"/>
                </a:cubicBezTo>
                <a:cubicBezTo>
                  <a:pt x="0" y="500"/>
                  <a:pt x="79" y="570"/>
                  <a:pt x="65" y="484"/>
                </a:cubicBezTo>
                <a:lnTo>
                  <a:pt x="66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56080" y="11016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j0261032" descr=""/>
          <p:cNvPicPr/>
          <p:nvPr/>
        </p:nvPicPr>
        <p:blipFill>
          <a:blip r:embed="rId2"/>
          <a:srcRect l="10645" t="0" r="0" b="19147"/>
          <a:stretch/>
        </p:blipFill>
        <p:spPr>
          <a:xfrm>
            <a:off x="5486400" y="0"/>
            <a:ext cx="3657600" cy="1447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0960" y="132084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200" y="1600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7840" y="1996920"/>
            <a:ext cx="23986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39960" y="2709720"/>
            <a:ext cx="23781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4840" y="7668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6840" y="20145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6840" y="184320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27241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255276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15240" y="3276720"/>
            <a:ext cx="166680" cy="166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03:36:09Z</dcterms:created>
  <dc:creator>Mark Finocchio</dc:creator>
  <dc:description/>
  <dc:language>en-US</dc:language>
  <cp:lastModifiedBy>Mark Finocchio</cp:lastModifiedBy>
  <dcterms:modified xsi:type="dcterms:W3CDTF">2000-05-07T02:43:03Z</dcterms:modified>
  <cp:revision>10</cp:revision>
  <dc:subject/>
  <dc:title>PowerPoint Presentation</dc:title>
</cp:coreProperties>
</file>